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4A41-C060-457E-AC9C-D4C89DEB0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07BD-5B54-4055-8D45-6198DD4B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8559-DC02-4028-89CC-3CFBF6CFB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C304-1507-4BFC-9EE3-4C6044704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F4A0-D349-4C73-8A21-38268C84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9CEB-3B8F-46A7-BA38-9934426F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C03B-67CD-4E80-9DEC-A2A0554A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940F-95C4-47DE-A969-9DBE3409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619C-81F7-432F-BE0C-B5BF00CE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7562-0302-459E-8FF3-72C72FD5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9E13-EBC0-4161-B70C-C66EFAD9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28F6-1500-42DE-BD77-7F231686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B192-D7D2-4315-9C2A-94E4B0A78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CROSS-SECTIONAL STUDIES</a:t>
            </a: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9343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4678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9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16292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973240" y="2376360"/>
            <a:ext cx="318780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086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102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162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162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1629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934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1-13T17:51:59Z</dcterms:modified>
  <cp:revision>106</cp:revision>
  <dc:subject/>
  <dc:title>The Art in the State of the Art</dc:title>
</cp:coreProperties>
</file>